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4AA-DA7B-48D9-B994-A8ED3895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7D2-2FD4-4DA9-9738-121176F0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7DB-5816-41F1-B5CA-075C14B5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D2B-B35F-4707-99A4-99FF4A45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95D-4DE1-4645-9029-41024C8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D53-8408-4EED-8994-BB727D46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24A-7236-4787-917C-A6C2834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54E-12AB-488A-9D51-4248134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A99-E5DA-41A0-9AAF-C1EB28BC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7C6-8D99-48DD-8C13-C5A9639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832-C424-4C76-A197-0B1C8AF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052-5117-442B-BAF4-B568B8D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825-A87B-4E38-984A-2A3A70589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The ABCs (and D) of Writing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Prompt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Comic Sans MS"/>
              </a:rPr>
              <a:t>WHY</a:t>
            </a: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 is this good to learn?</a:t>
            </a:r>
            <a:br>
              <a:rPr sz="4000"/>
            </a:b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(you don’t have to write this part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e writing reports / papers all ye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tart 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SAT has a writing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mployees are now asking for writing samples as part of the interview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an write well, you have the keys to let yourself through the doors of many amazing opportuniti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What is ABC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=Attack the prom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 = Brainstorm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 = Choose the order of y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 = Detect errors before turning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raft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ffff"/>
                </a:solidFill>
                <a:latin typeface="Comic Sans MS"/>
              </a:rPr>
              <a:t>Let’s Try this Out!!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A = Attack the Promp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out the words “Write an essay” or “write a composition”---- you do not need the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le any word that asks you to do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n arrow from each circled word to what it is telling you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mpt, rewrite &amp; number the circled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B = Brainstorm Possible Answ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take 1-2 minutes to do th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lay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lay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C = Choose the Order of Your Respons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driving somewhere with a map makes the trip easier, so does planning which way your essay should go make your writing be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3:56:03Z</dcterms:created>
  <dc:creator>BPS</dc:creator>
  <dc:description/>
  <dc:language>en-US</dc:language>
  <cp:lastModifiedBy>BPS</cp:lastModifiedBy>
  <dcterms:modified xsi:type="dcterms:W3CDTF">2009-09-15T14:10:38Z</dcterms:modified>
  <cp:revision>4</cp:revision>
  <dc:subject/>
  <dc:title>The ABCs (and D) of Writing Prompts</dc:title>
</cp:coreProperties>
</file>